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camera.wav" ContentType="audio/x-wav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A653-FFCE-423D-B561-89B3C54C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27F8-FE95-49B4-9E16-BD04E028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9341-6E10-4B3D-AC6D-27486E7B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C045-6F07-4FDD-8D35-474A1D5A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69DA-3838-4D03-8348-605B8BBB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C21B-872A-4811-A5B5-48889AB0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24D6-C295-4E5C-9C76-000AFEC0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B772-1539-452A-AA81-221AF138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CE46-9939-4CE7-9744-5BBDF8D8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097C-DDCF-42F0-9D6C-54D6D199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1151-4DD4-42A6-8AF6-B6DDB5BA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41BC-37AA-460C-9799-2DD2E5BF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DDD5-00FF-4F19-B874-459C3225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D49E-E539-4C91-AF21-A48D45F4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2781-002B-441B-9AC4-D0BB5F9E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F9CB-8EB8-4D3F-BE2E-C2065AFC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F968-5056-447E-A852-5759C794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FBAAF-B7A5-4947-A6EC-B451C411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830F4-C790-4196-8962-CDFAB8F9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FDF54-BDB6-410B-97AF-82D04B37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C8C91-509F-447A-B017-9F1498D0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9AB35-1801-43E8-88D5-085979FC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6C7-B5BF-4491-B51E-34F114B3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B06B6-933A-4096-90E3-0A6A2F2A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FFC79-3BE2-4677-A233-D066C5DA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5B391-0B4C-4233-A5DF-109BD4FC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8E95E-244F-4ABF-B023-CDC38220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30336-493B-4D31-BEF4-10196A3E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5D2D1-D278-4D0F-9B71-41060FE4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94F91-C3C1-41BB-A18D-F295E12B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93C74-3A57-46F4-AD72-9F43E70E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E6662-E1B3-458B-A77A-8C7233CC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41B9B-197D-4706-B3D1-6C4619F2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0340-8A80-4F12-8350-DB91FCB7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5C0F2-3DBB-44CD-B2B4-C18AA75B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538F2-84C7-449E-9173-BDE802B7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45A57-27B4-41B0-BA92-462B26A0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4CBA8-F4B3-49CB-8033-954A8043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0BFB8-AC5C-4F3E-B3B8-624C24AE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006D0-ED9B-41E0-9D4A-7693C45E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2DEAE-6722-43C7-8D32-B9ADFAB5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7D8F0-0A4F-4A48-9E5C-0D7D29B6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13A58-08EA-4049-B405-876BA405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9D8-42D0-470F-9DA2-BDBEAE68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942-509C-4C25-B8FF-135EE0A5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957-37E3-4EFF-B168-BA0EFB10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7B83-25C5-4C95-9970-3E161E53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769-CBB6-4462-B7B0-18B5D259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D42B-A17E-4635-9678-F0C1029735F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6BC5-8D34-4D2A-8D3A-6FE85FF737F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A17C-B88C-45C1-80E1-D6ADEB4D876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807E-3A39-45E1-A447-AF2F1ECD73B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74680" y="1133640"/>
            <a:ext cx="8820000" cy="2431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4" descr="C:\Program Files\Microsoft Office\MEDIA\CAGCAT10\j0301252.wmf"/>
          <p:cNvPicPr/>
          <p:nvPr/>
        </p:nvPicPr>
        <p:blipFill>
          <a:blip r:embed="rId1"/>
          <a:stretch/>
        </p:blipFill>
        <p:spPr>
          <a:xfrm>
            <a:off x="6143760" y="4429080"/>
            <a:ext cx="2247840" cy="1922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згадайте кроссворд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286000" y="1000080"/>
          <a:ext cx="5286240" cy="3000600"/>
        </p:xfrm>
        <a:graphic>
          <a:graphicData uri="http://schemas.openxmlformats.org/drawingml/2006/table">
            <a:tbl>
              <a:tblPr/>
              <a:tblGrid>
                <a:gridCol w="414360"/>
                <a:gridCol w="466560"/>
                <a:gridCol w="439920"/>
                <a:gridCol w="441360"/>
                <a:gridCol w="439560"/>
                <a:gridCol w="441360"/>
                <a:gridCol w="441360"/>
                <a:gridCol w="439920"/>
                <a:gridCol w="441000"/>
                <a:gridCol w="439920"/>
                <a:gridCol w="441360"/>
                <a:gridCol w="439560"/>
              </a:tblGrid>
              <a:tr h="428760"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5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6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81"/>
          <p:cNvSpPr/>
          <p:nvPr/>
        </p:nvSpPr>
        <p:spPr>
          <a:xfrm>
            <a:off x="214200" y="404568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горизонт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Сумма длин сторон геометрическ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Инструмент для измерения длины отрез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равило, записанное с помощью бук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ройденный пу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Арифметическое действ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Число, на которое нельзя дел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те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571760"/>
          <a:ext cx="8472600" cy="4503600"/>
        </p:xfrm>
        <a:graphic>
          <a:graphicData uri="http://schemas.openxmlformats.org/drawingml/2006/table">
            <a:tbl>
              <a:tblPr/>
              <a:tblGrid>
                <a:gridCol w="706320"/>
                <a:gridCol w="551160"/>
                <a:gridCol w="860400"/>
                <a:gridCol w="706320"/>
                <a:gridCol w="706320"/>
                <a:gridCol w="706680"/>
                <a:gridCol w="704520"/>
                <a:gridCol w="706680"/>
                <a:gridCol w="706320"/>
                <a:gridCol w="706320"/>
                <a:gridCol w="704880"/>
                <a:gridCol w="706680"/>
              </a:tblGrid>
              <a:tr h="650880"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5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6 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6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Устный сч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и вычислите: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! = 3 · 2 · 1 = 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! =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! =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! =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920" y="7045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акие измерения надо провести, чтобы найти площадь прямоугольника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                       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       </a:t>
            </a: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 = a · b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Прямоугольник 3"/>
          <p:cNvSpPr/>
          <p:nvPr/>
        </p:nvSpPr>
        <p:spPr>
          <a:xfrm>
            <a:off x="1714680" y="2643120"/>
            <a:ext cx="5500440" cy="2000160"/>
          </a:xfrm>
          <a:prstGeom prst="rect">
            <a:avLst/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13840" y="1643040"/>
            <a:ext cx="86439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Площадь квадрата равна квадрату его стороны:</a:t>
            </a: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                  </a:t>
            </a: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a                               </a:t>
            </a: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</a:t>
            </a:r>
            <a:r>
              <a:rPr b="0" i="1" lang="ru-RU" sz="6000" spc="-1" strike="noStrike">
                <a:solidFill>
                  <a:srgbClr val="ff0000"/>
                </a:solidFill>
                <a:latin typeface="Constantia"/>
              </a:rPr>
              <a:t> = а</a:t>
            </a:r>
            <a:r>
              <a:rPr b="0" i="1" lang="ru-RU" sz="6000" spc="-1" strike="noStrike" baseline="30000">
                <a:solidFill>
                  <a:srgbClr val="ff0000"/>
                </a:solidFill>
                <a:latin typeface="Constanti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                            </a:t>
            </a: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Прямоугольник 3"/>
          <p:cNvSpPr/>
          <p:nvPr/>
        </p:nvSpPr>
        <p:spPr>
          <a:xfrm>
            <a:off x="2786040" y="3000240"/>
            <a:ext cx="2143080" cy="20718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 u="sng">
                <a:solidFill>
                  <a:srgbClr val="04617b"/>
                </a:solidFill>
                <a:uFillTx/>
                <a:latin typeface="Calibri"/>
              </a:rPr>
              <a:t>Свойства площадей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400" y="1196640"/>
            <a:ext cx="8715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786240" indent="-78624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Площади равных фигур равны.</a:t>
            </a: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Их периметры тоже равны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 algn="ctr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 algn="ctr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S1 = S2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1 = </a:t>
            </a: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Равнобедренный треугольник 3"/>
          <p:cNvSpPr/>
          <p:nvPr/>
        </p:nvSpPr>
        <p:spPr>
          <a:xfrm>
            <a:off x="714240" y="2571840"/>
            <a:ext cx="2928960" cy="23572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S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Равнобедренный треугольник 4"/>
          <p:cNvSpPr/>
          <p:nvPr/>
        </p:nvSpPr>
        <p:spPr>
          <a:xfrm>
            <a:off x="5072040" y="2428920"/>
            <a:ext cx="2928960" cy="2357280"/>
          </a:xfrm>
          <a:prstGeom prst="triangle">
            <a:avLst>
              <a:gd name="adj" fmla="val 50000"/>
            </a:avLst>
          </a:prstGeom>
          <a:solidFill>
            <a:srgbClr val="55a83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S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4617b"/>
                </a:solidFill>
                <a:uFillTx/>
                <a:latin typeface="Calibri"/>
              </a:rPr>
              <a:t>Свойства площадей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2. Площадь всей фигуры равна сумме площадей ее часте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S = S1 + S2 + S3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1214280" y="3286080"/>
            <a:ext cx="1714680" cy="18576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2928960" y="3286080"/>
            <a:ext cx="1714320" cy="1857600"/>
          </a:xfrm>
          <a:prstGeom prst="rect">
            <a:avLst/>
          </a:prstGeom>
          <a:solidFill>
            <a:srgbClr val="10cf9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4643280" y="3286080"/>
            <a:ext cx="1714680" cy="1857600"/>
          </a:xfrm>
          <a:prstGeom prst="rect">
            <a:avLst/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ведем итоги уро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Запишите формулу площади прямоугольни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Запишите формулу площади квадрат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Какие свойства площадей вы запомнили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4:26:00Z</dcterms:created>
  <dc:creator>Admin</dc:creator>
  <dc:description/>
  <dc:language>en-US</dc:language>
  <cp:lastModifiedBy>Макаров</cp:lastModifiedBy>
  <dcterms:modified xsi:type="dcterms:W3CDTF">2012-12-03T05:02:39Z</dcterms:modified>
  <cp:revision>14</cp:revision>
  <dc:subject/>
  <dc:title>08.12</dc:title>
</cp:coreProperties>
</file>